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6B406-361D-4765-AF17-B043E0483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49E3E-19B7-47DD-9DC8-583315849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8FEC1-1E7E-49DA-921C-5428DA642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FD196-FA90-4A8A-9C3F-F00A158ECC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DB4F6-4397-4401-A500-47EA90A711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9318C-4CF3-44C9-950D-B8FD83D69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81CAC-0F01-4134-BC6E-31D642498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BE5DE-A840-48C8-9FE0-164ADD77C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983CD-A63C-4E30-8AC0-3871180EE6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3C757-85BE-40F3-939B-3A3B41FAE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DFD7D-3113-4624-A496-2F8008460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0B8D2-F5ED-4824-81A0-A19B0020A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DD8E8-A262-4BD2-BA4F-667A43A32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515AF-9F19-4274-BF64-9ED5849D08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BF641-0B15-4605-A9CE-A1CB38CA6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29784-604D-4AF2-A180-53A2970E3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4DC34-BDB5-485F-A347-62E80816F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73AC91-A033-411C-8ABC-77F4E5937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2E15F-79C1-43DC-B888-43CDE5963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840BE-AE17-407E-A3C8-D822E337E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3DB4A-936D-4420-AF9E-DF2DC5A16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D95BE-828A-4D48-8C5F-7C29C525B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7A30D-1D6C-4466-BE54-E768E3308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2E28A-0D43-4B0C-A6C8-480AD3169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DFBAF-CC26-45D3-8509-371E2F258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3E2FA-BDBF-4D39-BAAB-86F7947FE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AB9F8-6276-4F05-A2F6-66C7DA124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00EBF-A236-4294-9B1E-AC35D6636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5733-7C25-4E9F-92AC-9D4FAD606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4D83-9AAD-407C-8645-605F8BF55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BA61-93F8-43BE-A141-25D4FA1A4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F3DF-577C-4CDF-984B-C90A5640A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539B-D10F-4E02-BF57-AE8A79744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D098-4619-4A13-B9D5-1C7B7F01C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B96F-BD8D-476E-AD04-1692FE1B3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1407-6C61-4626-AE43-6A5C8E846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B5E2-F4EA-49B1-8753-401724B8A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3C60-BFB3-4004-83C1-2C16AC33C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5A58-28D0-4857-B66C-E48CE032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F191-F0E3-4949-9A9D-ED59737CD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ro's "Introductory Chemistry", Chapte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5AAFA-1E2C-47EC-B774-B1685A01E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47920" y="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603440" y="247680"/>
            <a:ext cx="60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apter 1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e Chemical Wor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30720" y="6305400"/>
            <a:ext cx="77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p: Introductory Chemistry (Tro) https://chem.libretexts.org/@go/page/45050 (accessed Mar 25, 2022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2239920"/>
            <a:ext cx="396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665520" y="2176560"/>
            <a:ext cx="5173560" cy="33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49360" y="2390760"/>
            <a:ext cx="33354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Stogsd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t Community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 1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ory Chem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EC34A-5086-4B77-8E03-C43B7E5A5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What’s the Difference Between an Observation and a La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lls you what happened in a singl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mmariz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bservations, effectively telling you what you will observe in future ev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107CF-6E73-4BE1-B2D8-7E7B3BD8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685800" y="320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explanation for the characteristics and behavior of n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of n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Dalton’s Atomic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predict future observ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o they can be tested by experi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5CD1D-6359-42CB-B360-BCBDAAF7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What’s the Difference Between a Hypothesis and a The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planation of a single or small number of observ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xplanation that extends beyond individual observations to an understanding of the underlying causes for the way nature is or beh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A9290-7363-48CF-92D8-24569F8A8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What’s the Difference Between a</a:t>
            </a:r>
            <a:br>
              <a:rPr sz="4000"/>
            </a:b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Law and a The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229860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swer the question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happ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swer the question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y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something happ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eories allow to extend your predictions to a wider set of circumsta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971F9-2529-483D-BE94-24EB39F32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33520" y="2030400"/>
            <a:ext cx="8076960" cy="2797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04920" y="3808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685800" y="4724280"/>
            <a:ext cx="2666880" cy="1219320"/>
          </a:xfrm>
          <a:prstGeom prst="wedgeRectCallout">
            <a:avLst>
              <a:gd name="adj1" fmla="val -38870"/>
              <a:gd name="adj2" fmla="val -15273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careful noting and recording of natural phenome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762120" y="838080"/>
            <a:ext cx="1523880" cy="1219320"/>
          </a:xfrm>
          <a:prstGeom prst="wedgeRectCallout">
            <a:avLst>
              <a:gd name="adj1" fmla="val 69583"/>
              <a:gd name="adj2" fmla="val 1613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test of a hypothesis or the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800600" y="1219320"/>
            <a:ext cx="3657600" cy="1218960"/>
          </a:xfrm>
          <a:prstGeom prst="wedgeRectCallout">
            <a:avLst>
              <a:gd name="adj1" fmla="val -49824"/>
              <a:gd name="adj2" fmla="val 6614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tentative explanation of a single or small number of natural phenome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5486400" y="4114800"/>
            <a:ext cx="3048120" cy="838080"/>
          </a:xfrm>
          <a:prstGeom prst="wedgeRectCallout">
            <a:avLst>
              <a:gd name="adj1" fmla="val 36458"/>
              <a:gd name="adj2" fmla="val -21401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general explanation of natural phenome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038480" y="5105520"/>
            <a:ext cx="2743200" cy="1143000"/>
          </a:xfrm>
          <a:prstGeom prst="wedgeRectCallout">
            <a:avLst>
              <a:gd name="adj1" fmla="val -21004"/>
              <a:gd name="adj2" fmla="val -1149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generally observed natural phenomen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310B7-743D-415C-B65B-A06CDD5B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85800" y="46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Relationships Between Pieces of the Scientific Meth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981080"/>
          <a:ext cx="8612280" cy="4114800"/>
        </p:xfrm>
        <a:graphic>
          <a:graphicData uri="http://schemas.openxmlformats.org/drawingml/2006/table">
            <a:tbl>
              <a:tblPr/>
              <a:tblGrid>
                <a:gridCol w="3429000"/>
                <a:gridCol w="2711520"/>
                <a:gridCol w="2471760"/>
              </a:tblGrid>
              <a:tr h="160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es to single o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numb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f ev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es to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v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be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appe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ains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ings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s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o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C036C-4B79-4A55-8E6B-293152679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probably noticed that soda pop fizzes when the bottle is ope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tate the problem. Why does soda pop fizz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Gather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Examine soda pop’s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Its color, taste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It bubbles and fizzes when ope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Examine soda’s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10360" y="1981080"/>
            <a:ext cx="27464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F56D5-675C-44A4-8337-F28BAF80C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n Example,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4920" y="114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Organize the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All the stuff around you is composed of chemic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e three main chemical ingredients of soda pop are water, sugar, and 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ugar = sweet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Water = liq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Carbon dioxide = 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Look for patter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Noto Sans CJK SC"/>
              </a:rPr>
              <a:t>Structure determines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o the fizzing of soda must have something to do with what’s in 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We know tha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If we blow air, a gas, into water, bubbles fo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Bubbles are like soda fiz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66B03-1D0C-4B47-BD8E-12F44E9A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n Example,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 Propose a hypoth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ince the only gas in soda is carbon dioxi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e reason soda pop fizzes is because the carbon dioxide is coming out of the soda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6: Test your hypothe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How would you test it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3D361-9ED3-46E1-88D3-675FA3361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Another Example from History—Why Do Some Things Bur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ings would stop burning when placed in a closed contai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Many metals burn to form a white powder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cal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Metals can be recovered from their calx by roasting it with charco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4A7B1-6400-4B14-AC67-76FDD9DE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hat Is Chemist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hemists try to do is discover the relationships between the particle structure of matter and the properties of matter we obser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stry is the science that seeks to understand what matter does by studying what atoms and molecules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3620C-5A92-45F8-AA2C-3D307EB36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Why Do Some Things Burn?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 Phlogiston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0880" y="228600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tion of combustion in early/mid-170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ustible substances contained a substance they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logis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burned it released all or some of its phlogiston into the air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AD5A8-1176-419A-9BD8-7C251C96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ow Does Phlogiston Theory Explain the Observa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ubstance is burned in the open, all the phlogiston is relea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ubstance is burned in a closed container, the phlogiston is released until it saturates the container, at which point the combustion sto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al’s calx is what is left after it releases all its phlogi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oasted with charcoal the calx reacquires phlogiston from the charco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Charcoal is rich in phlogiston, that’s why charcoal bu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2F48E-F1A7-473B-9F1E-6340B13E2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ow Was Phlogiston Theory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ut to the Tes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of Phlogiston Theory—If  phlogiston is lost when metals burn, then the metals should lose weight when burn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veau’s experiments showed that when a piece of metal burned, the resulting calx weighed more than the original me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Morveau’s observations validate or invalidate the Phlogiston The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33D9F-C6F3-4587-9B5A-91E87360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ow Was Phlogiston Theory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Put to the Test?,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810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of Phlogiston Theory—If a calx is heated, it should remove phlogiston from the air as the calx is converted to the me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oisier roasted many calx with a large lens and observed that material he called “fixed air” was released into the a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Lavoisier’s observations validate or invalidate the Phlogiston Theor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FDDEA-79BB-423C-96F7-BAB868EA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Great Burning Le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7852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6F0CC-D155-4A17-B6E3-F860303B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685800" y="39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A Better Theory of Combu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oisier proposed an alternative theory of combus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aterials burn, they remove and combine with fixed air from the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Lavoisier’s idea explain all the previous observ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ould you test Lavoisier’s id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B6B9B-D401-433E-952D-0BE30EB6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320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ow to Succeed in Chemis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684440"/>
            <a:ext cx="4800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urious and use your imagin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Explore and investig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y and calcu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Even small differences can be impor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Work regularly and carefu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441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58A24B-6BC9-41DE-8723-BEE78997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Best Approach to 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Learning Chemis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rn the vocabulary of chemist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Definitions of ter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How common vocabulary is applied to chemis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orize important informatio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Names, formulas, and charges of polyatomic 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olubility ru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rn and practice proces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ystematic names and formu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Dimensional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the questions and exercises in the chapter to test your understanding and help you learn the pattern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B700D-5CBD-4A4E-820F-8EA1A3DA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Structure Determines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152388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made of tiny particle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c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sts believe that the properties of a substance are determined by the type, amount, and intractions between these pie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2438280" cy="201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274320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AB547-58DF-4958-947D-14AD9043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The Scientific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cess for trying to understand nature by observing it and analyzing the way it behaves. Hypothesis are formed and tested through experi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characteristics of the scientific method inclu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mula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formula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 and The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ro's "Introductory Chemistry", Chapte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Why Aren’t the Philosophers</a:t>
            </a:r>
            <a:br>
              <a:rPr sz="3600"/>
            </a:b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Considered Scienti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04920" y="1523880"/>
            <a:ext cx="4113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ilosoph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na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havior of natu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and debate ideas with other philosop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uth is revealed through logic and deb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95680" y="1523880"/>
            <a:ext cx="4267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cientis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na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behavior of na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and debate ideas with other scientists.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2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uth is revealed through experimen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A7884-F925-4E4D-ACB8-7E06909A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Obser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1066680"/>
            <a:ext cx="624852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way of acquiring information about natur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formation obtained from observation is  known 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observations are simple descriptions about the characteristics or behavior of natur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e soda pop is a liquid with a brown color and a sweet taste.  Bubbles are seen floating up through it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observations compare a characteristic to a standard numerical sca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A 240-mL serving of soda pop contains 27 g of suga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6454800" y="1905120"/>
            <a:ext cx="26892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C2C09-B1F3-4A27-A2DA-EF34A14C4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85800" y="39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157644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ntative interpretation or explanation of your observ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The sweet taste of soda pop is due to the presence of suga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hypothesis is one that can be tested to be proven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Falsif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One test may invalidate your hypothe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59A4E-49F2-4CE1-8052-E765087B5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4920" y="1460520"/>
            <a:ext cx="8534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of hypotheses, laws, or the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think of a way to test whether the sweet taste of soda pop is due to the presence of sug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either validate (confirm) or invalidate (deny) your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Invalidate = Discard or Mod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Many times experiments invalidate only parts of the hypothesis or theory, in which case the idea is modif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Vali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Proof your idea will always 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1D07E-9405-4E84-91E4-4512AB160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5800" y="200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imes New Roman"/>
              </a:rPr>
              <a:t>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1447920"/>
            <a:ext cx="8153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observations that combines all past observations into one general stat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Law of Conservation of Mass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“In a chemical reaction matter is neither created nor destroy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you to predict future observ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So you can test the law with experi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state laws, you cannot choose to violate a scientific la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4:53:03Z</dcterms:created>
  <dc:creator>Roy Kennedy</dc:creator>
  <dc:description/>
  <dc:language>en-US</dc:language>
  <cp:lastModifiedBy>Michael Stogsdill</cp:lastModifiedBy>
  <dcterms:modified xsi:type="dcterms:W3CDTF">2022-04-25T13:41:17Z</dcterms:modified>
  <cp:revision>59</cp:revision>
  <dc:subject/>
  <dc:title>Introductory Chemistry, 2nd Edition Nivaldo Tro</dc:title>
</cp:coreProperties>
</file>